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28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7.wmf" ContentType="image/x-wmf"/>
  <Override PartName="/ppt/media/image12.png" ContentType="image/png"/>
  <Override PartName="/ppt/media/image6.wmf" ContentType="image/x-wmf"/>
  <Override PartName="/ppt/media/image11.png" ContentType="image/png"/>
  <Override PartName="/ppt/media/image5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4.wmf" ContentType="image/x-wmf"/>
  <Override PartName="/ppt/media/image1.jpeg" ContentType="image/jpeg"/>
  <Override PartName="/ppt/media/image29.png" ContentType="image/png"/>
  <Override PartName="/ppt/media/image17.png" ContentType="image/png"/>
  <Override PartName="/ppt/media/image27.png" ContentType="image/png"/>
  <Override PartName="/ppt/media/image15.png" ContentType="image/png"/>
  <Override PartName="/ppt/media/image24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14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62520" y="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68560" y="685440"/>
            <a:ext cx="4673520" cy="3505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3908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5ECD1-4A9C-4FC8-9EC3-8291812DB145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870C9-B81F-4F2F-8238-1A3F68F3D4E0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-360" y="883908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-360" y="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962520" y="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62080" y="665280"/>
            <a:ext cx="4687920" cy="351612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66960" y="4417560"/>
            <a:ext cx="5076720" cy="421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5C077-BC18-42ED-9E91-38CB86D33B60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-360" y="883908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-360" y="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962520" y="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62080" y="665280"/>
            <a:ext cx="4687920" cy="351612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66960" y="4417560"/>
            <a:ext cx="5076720" cy="421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91D9E-9FB9-4102-ADEF-BB33D1F3E2AE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-360" y="883908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-360" y="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962520" y="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62080" y="665280"/>
            <a:ext cx="4687920" cy="351612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66960" y="4417560"/>
            <a:ext cx="5076720" cy="421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8766-7694-4D35-ABE5-A6803FD90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396E-7BDA-42CA-A2D4-10AAC4516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CFFB-CFC1-41FD-B9DD-150677C84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E509-9854-4F1C-9D9B-561EDA4F1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D0EC-DB9A-4CA4-9781-A78BC6FEF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AA73-24CB-4067-ABF3-F001CFA7A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7434-D73E-4151-ADB6-BEB162C3E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F214-4A59-4FF6-A866-2A8096C16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659F-DC00-4453-B613-9BE5D582C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9E43-5307-4F0E-922F-03ED4B267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27F5-4C66-44F9-81E8-989622DC6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3B7F-F518-4E4F-8818-FFCB30982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3C393-87AB-4E3B-88E9-982FCDDCD5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6.wmf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.wmf"/><Relationship Id="rId1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What is Organic chemistry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istor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ganic” – derived from living organis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ounds such as sugar, urea, st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italism: natural products needed a “VitalForce” to create th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öhler (1828) synthesis of u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1477800" y="3782880"/>
            <a:ext cx="5900760" cy="2529000"/>
            <a:chOff x="1477800" y="3782880"/>
            <a:chExt cx="5900760" cy="2529000"/>
          </a:xfrm>
        </p:grpSpPr>
        <p:pic>
          <p:nvPicPr>
            <p:cNvPr id="51" name="" descr=""/>
            <p:cNvPicPr/>
            <p:nvPr/>
          </p:nvPicPr>
          <p:blipFill>
            <a:blip r:embed="rId1"/>
            <a:stretch/>
          </p:blipFill>
          <p:spPr>
            <a:xfrm>
              <a:off x="1477800" y="3782880"/>
              <a:ext cx="5900760" cy="180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1816200" y="5780160"/>
              <a:ext cx="177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ccff"/>
                  </a:solidFill>
                  <a:latin typeface="Arial"/>
                </a:rPr>
                <a:t>Inorgani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641200" y="5791320"/>
              <a:ext cx="152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ccff"/>
                  </a:solidFill>
                  <a:latin typeface="Arial"/>
                </a:rPr>
                <a:t>Organi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9AA1-520D-4666-9F42-6E5FC69332F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earning Chec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26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ntify each characteristic as most typical of compou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are  1) inorganic   2) organic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  has a high melting poi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  is not soluble in 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  has a formula  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─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─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   has a formula  MgC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   burns easily in 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.   has covalent bo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E8B6-89D6-4E58-A7FE-35A6239B113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olu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26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ntify each characteristic as most typical of compou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are  1) inorganic   2) organic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1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.  has a high melting poi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.  is not soluble in 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.  has a formula 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─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─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1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.  has a formula  MgC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.   burns easily in 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.   has covalent bo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D871-E666-4978-A1B4-70035C00CDD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mparing Organic and Inorganic Compoun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" y="2209680"/>
            <a:ext cx="9144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984240" y="1523880"/>
            <a:ext cx="7397280" cy="4287240"/>
            <a:chOff x="984240" y="1523880"/>
            <a:chExt cx="7397280" cy="4287240"/>
          </a:xfrm>
        </p:grpSpPr>
        <p:pic>
          <p:nvPicPr>
            <p:cNvPr id="124" name="" descr=""/>
            <p:cNvPicPr/>
            <p:nvPr/>
          </p:nvPicPr>
          <p:blipFill>
            <a:blip r:embed="rId1"/>
            <a:srcRect l="0" t="14077" r="54947" b="8510"/>
            <a:stretch/>
          </p:blipFill>
          <p:spPr>
            <a:xfrm>
              <a:off x="984240" y="2024280"/>
              <a:ext cx="4816440" cy="378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" descr=""/>
            <p:cNvPicPr/>
            <p:nvPr/>
          </p:nvPicPr>
          <p:blipFill>
            <a:blip r:embed="rId2"/>
            <a:srcRect l="58448" t="11731" r="16212" b="10856"/>
            <a:stretch/>
          </p:blipFill>
          <p:spPr>
            <a:xfrm>
              <a:off x="5619600" y="1523880"/>
              <a:ext cx="2761920" cy="4066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6" name=""/>
          <p:cNvSpPr/>
          <p:nvPr/>
        </p:nvSpPr>
        <p:spPr>
          <a:xfrm>
            <a:off x="914400" y="579132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 2005  by Pearson Education, Inc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shing as Benjamin Cumming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E0D2-AC30-4831-BDC8-26CEFEDA0E1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etrahedral Structure of Carb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28195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Times New Roman"/>
              </a:rPr>
              <a:t>VSEPR theor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redicts that a carbon atom with four single, covalent bonds, has a tetrahedral shap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581280" y="1523880"/>
            <a:ext cx="4419720" cy="4154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1605-29A6-4B34-9A5C-50A4366F64A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etrahedral Structure of Carb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2057040"/>
            <a:ext cx="2819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molecules with two or more carbon atoms, each carbon atom with four single bonds has a tetrahedral shap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581280" y="1430280"/>
            <a:ext cx="4648320" cy="458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045A-7A29-444C-8C6E-46478448EFD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we ar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ing to explore isomerism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give you an idea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are many compounds that have same chemical formula but different structu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191120" y="4191120"/>
            <a:ext cx="3962160" cy="1952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5708-032B-45E1-9BE0-5489A336A90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3048120" y="16668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em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" y="1219320"/>
            <a:ext cx="8686800" cy="54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omers are different compounds with the same molecular formul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two major classes of isomers are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onstitutiona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omers and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stereoisomer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4360" indent="-227160" algn="just">
              <a:lnSpc>
                <a:spcPct val="100000"/>
              </a:lnSpc>
              <a:spcBef>
                <a:spcPts val="45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onstitutional/structural isomer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have different IUPAC names, the same or different functional groups, different physical properties and different chemical propert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4360" indent="-227160" algn="just">
              <a:lnSpc>
                <a:spcPct val="100000"/>
              </a:lnSpc>
              <a:spcBef>
                <a:spcPts val="45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Stereoisomer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iffer only in the way the atoms are oriented in space. They have identical IUPAC names (except for a prefix lik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i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ra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. They always have the same functional group(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particular three-dimensional arrangement is called a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onfigura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Stereoisomers differ in configura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52280" y="7300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e Two Major Classes of Isome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BEEA-19D9-4DAD-AB91-547D8E0ED43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titutional isom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uctural isomers have the s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lecular formulas but they differ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ir structural formul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y to give me the all the structural isomers of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3CBE-2714-4519-AED6-B58E79B6153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81440" y="1371600"/>
            <a:ext cx="251532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cc"/>
                </a:solidFill>
                <a:latin typeface="Tahoma"/>
              </a:rPr>
              <a:t>Figure 5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comparison of consitutio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omers and stereoisom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09480" y="2590920"/>
            <a:ext cx="7804440" cy="2955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0980-3F43-47F5-9932-728BCDE2596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tereoisomers or Geometrical isom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Geometrical isomers occur in organic molecules  where rotation around a bond is restricte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is occurs most often around C=C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 most common cases are around asymmetric non-cyclic alken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288640" y="633888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7A092-0749-435F-9C17-57D047956BE4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3840-5692-423A-828C-38C4C58945D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Organic Chemistry Toda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04920" y="1447920"/>
            <a:ext cx="8610480" cy="424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The study of compounds and reactions involving carbon, regardless of sourc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Kekulé, 186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tural products” – from living organis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iochemistry” – the chemistry that occurs in living organis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ganic Vegetables, Natural Vitamins from extra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80C8-9612-4A6A-9BC3-09533E76537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752120" y="0"/>
            <a:ext cx="617220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ometric Isomers in alke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01028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 cis isomer is one in which the substituents are on the same side of the C=C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19320" y="4114800"/>
            <a:ext cx="7010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 trans isomer is one in which the substituents are on the opposite sides of the C=C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3048120" y="2451240"/>
            <a:ext cx="2286000" cy="16635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2971800" y="5022720"/>
            <a:ext cx="2209680" cy="16066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8288640" y="633888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2D37C-21B5-46D4-AEE4-50378DF1D7F3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96B4-6048-48E0-B6E5-2F49AD1D4CE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perties of Geometrical Isom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2895120"/>
            <a:ext cx="41148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 trans isomer has a much higher melting point. Unlike the cis isomer there is little intra-molecular hydrogen bond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rcRect l="5738" t="0" r="4304" b="7897"/>
          <a:stretch/>
        </p:blipFill>
        <p:spPr>
          <a:xfrm>
            <a:off x="4800600" y="1066680"/>
            <a:ext cx="3735360" cy="556272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8288640" y="633888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29948-90F2-431F-BDF9-A2084D1D9473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C96F-2046-44C8-A8BB-7EE3FBC51C2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perties of Geometrical Isom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8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 chemical properties of geometrical isomers tend to be similar but their physical properties are differen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762120" y="3048120"/>
            <a:ext cx="7924680" cy="196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8225280" y="633888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843B6-D576-4167-93B4-0EDA73F6F23A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5127-3310-459C-96B3-DF966B23893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52280" y="228600"/>
            <a:ext cx="86108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the following pairs of compounds consitutional isomers or stereoisomer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990720" y="1143000"/>
          <a:ext cx="3744720" cy="128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143000"/>
                    <a:ext cx="3744720" cy="12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"/>
          <p:cNvSpPr/>
          <p:nvPr/>
        </p:nvSpPr>
        <p:spPr>
          <a:xfrm>
            <a:off x="304920" y="27432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1371600" y="2819520"/>
          <a:ext cx="2104920" cy="1317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1600" y="2819520"/>
                    <a:ext cx="2104920" cy="13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"/>
          <p:cNvSpPr/>
          <p:nvPr/>
        </p:nvSpPr>
        <p:spPr>
          <a:xfrm>
            <a:off x="380880" y="44956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1143000" y="4648320"/>
          <a:ext cx="2154240" cy="1245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43000" y="4648320"/>
                    <a:ext cx="2154240" cy="124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"/>
          <p:cNvSpPr/>
          <p:nvPr/>
        </p:nvSpPr>
        <p:spPr>
          <a:xfrm>
            <a:off x="5181480" y="15238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titut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486400" y="31240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titut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410080" y="47242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reoiso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B1FD-D2D2-43AB-864B-E825474BEFE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984600" y="838080"/>
            <a:ext cx="2482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cc"/>
                </a:solidFill>
                <a:latin typeface="Tahoma"/>
              </a:rPr>
              <a:t>Figure 5.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mma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—Types of isom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7804080" cy="4400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251A-1AA5-411E-A7A3-7DBFE030262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antiom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371240" y="1523880"/>
            <a:ext cx="701028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nantiomers must have an asymmetric carbon. (called chiral carbon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n asymmetric carbon atom has four different atoms or groups attache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676520" y="3809880"/>
            <a:ext cx="2895480" cy="205128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4937040" y="3846600"/>
            <a:ext cx="3749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 this case there are two different ways to arrange the four groups around the chiral carbon atom (shown in r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225280" y="633888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56D15-8404-42AC-8EB6-638504CDE4FC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2EAB-A39B-4261-A176-E6FA87B9F16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natiomers are mirror images of each other around a chiral carb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4114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hile these structures may look identical, in three dimensions they are mirror images of each other.  Such molecules are called </a:t>
            </a:r>
            <a:r>
              <a:rPr b="1" lang="en-US" sz="2600" spc="-1" strike="noStrike">
                <a:solidFill>
                  <a:srgbClr val="000099"/>
                </a:solidFill>
                <a:latin typeface="Times New Roman"/>
              </a:rPr>
              <a:t>enantiomer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4419720" y="2133720"/>
            <a:ext cx="4190760" cy="210636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8225280" y="633888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79B50-A580-41A7-8B53-EA935395B8FB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C2B5-CF51-426A-AB19-9FDE29FB188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5791320" y="1600200"/>
            <a:ext cx="2057400" cy="1523880"/>
            <a:chOff x="5791320" y="1600200"/>
            <a:chExt cx="2057400" cy="1523880"/>
          </a:xfrm>
        </p:grpSpPr>
        <p:grpSp>
          <p:nvGrpSpPr>
            <p:cNvPr id="58" name=""/>
            <p:cNvGrpSpPr/>
            <p:nvPr/>
          </p:nvGrpSpPr>
          <p:grpSpPr>
            <a:xfrm>
              <a:off x="5791320" y="1600200"/>
              <a:ext cx="2057400" cy="1523880"/>
              <a:chOff x="5791320" y="1600200"/>
              <a:chExt cx="2057400" cy="1523880"/>
            </a:xfrm>
          </p:grpSpPr>
          <p:sp>
            <p:nvSpPr>
              <p:cNvPr id="59" name=""/>
              <p:cNvSpPr/>
              <p:nvPr/>
            </p:nvSpPr>
            <p:spPr>
              <a:xfrm>
                <a:off x="5791320" y="1600200"/>
                <a:ext cx="2057400" cy="1523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60" name=""/>
              <p:cNvGraphicFramePr/>
              <p:nvPr/>
            </p:nvGraphicFramePr>
            <p:xfrm>
              <a:off x="6477120" y="1752480"/>
              <a:ext cx="923760" cy="1038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61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6477120" y="1752480"/>
                        <a:ext cx="923760" cy="1038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62" name=""/>
            <p:cNvGraphicFramePr/>
            <p:nvPr/>
          </p:nvGraphicFramePr>
          <p:xfrm>
            <a:off x="6620040" y="2819520"/>
            <a:ext cx="1152360" cy="2476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620040" y="2819520"/>
                      <a:ext cx="1152360" cy="247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Why should we car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0112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iochem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harmaceutic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ndu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oly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xplos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5715000" y="4800600"/>
            <a:ext cx="2057400" cy="1828800"/>
            <a:chOff x="5715000" y="4800600"/>
            <a:chExt cx="2057400" cy="1828800"/>
          </a:xfrm>
        </p:grpSpPr>
        <p:sp>
          <p:nvSpPr>
            <p:cNvPr id="67" name=""/>
            <p:cNvSpPr/>
            <p:nvPr/>
          </p:nvSpPr>
          <p:spPr>
            <a:xfrm>
              <a:off x="5715000" y="4800600"/>
              <a:ext cx="2057400" cy="1828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8" name=""/>
            <p:cNvGraphicFramePr/>
            <p:nvPr/>
          </p:nvGraphicFramePr>
          <p:xfrm>
            <a:off x="5867280" y="4800600"/>
            <a:ext cx="1752840" cy="17524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867280" y="4800600"/>
                      <a:ext cx="1752840" cy="1752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70" name=""/>
          <p:cNvGrpSpPr/>
          <p:nvPr/>
        </p:nvGrpSpPr>
        <p:grpSpPr>
          <a:xfrm>
            <a:off x="5791320" y="1600200"/>
            <a:ext cx="2057400" cy="1523880"/>
            <a:chOff x="5791320" y="1600200"/>
            <a:chExt cx="2057400" cy="1523880"/>
          </a:xfrm>
        </p:grpSpPr>
        <p:grpSp>
          <p:nvGrpSpPr>
            <p:cNvPr id="71" name=""/>
            <p:cNvGrpSpPr/>
            <p:nvPr/>
          </p:nvGrpSpPr>
          <p:grpSpPr>
            <a:xfrm>
              <a:off x="5791320" y="1600200"/>
              <a:ext cx="2057400" cy="1523880"/>
              <a:chOff x="5791320" y="1600200"/>
              <a:chExt cx="2057400" cy="1523880"/>
            </a:xfrm>
          </p:grpSpPr>
          <p:sp>
            <p:nvSpPr>
              <p:cNvPr id="72" name=""/>
              <p:cNvSpPr/>
              <p:nvPr/>
            </p:nvSpPr>
            <p:spPr>
              <a:xfrm>
                <a:off x="5791320" y="1600200"/>
                <a:ext cx="2057400" cy="1523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73" name=""/>
              <p:cNvGraphicFramePr/>
              <p:nvPr/>
            </p:nvGraphicFramePr>
            <p:xfrm>
              <a:off x="6477120" y="1752480"/>
              <a:ext cx="1247760" cy="104796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74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6477120" y="1752480"/>
                        <a:ext cx="1247760" cy="1047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75" name=""/>
            <p:cNvGraphicFramePr/>
            <p:nvPr/>
          </p:nvGraphicFramePr>
          <p:xfrm>
            <a:off x="6039000" y="2819520"/>
            <a:ext cx="1733400" cy="2476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76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6039000" y="2819520"/>
                      <a:ext cx="1733400" cy="247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77" name=""/>
          <p:cNvGrpSpPr/>
          <p:nvPr/>
        </p:nvGrpSpPr>
        <p:grpSpPr>
          <a:xfrm>
            <a:off x="5638680" y="3352680"/>
            <a:ext cx="1904760" cy="1218960"/>
            <a:chOff x="5638680" y="3352680"/>
            <a:chExt cx="1904760" cy="1218960"/>
          </a:xfrm>
        </p:grpSpPr>
        <p:sp>
          <p:nvSpPr>
            <p:cNvPr id="78" name=""/>
            <p:cNvSpPr/>
            <p:nvPr/>
          </p:nvSpPr>
          <p:spPr>
            <a:xfrm>
              <a:off x="5638680" y="3352680"/>
              <a:ext cx="1904760" cy="1218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5828760" y="3439440"/>
            <a:ext cx="1559520" cy="10018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5828760" y="3439440"/>
                      <a:ext cx="1559520" cy="1001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04EC-7919-4C86-9841-531AD4ED06A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442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three dimensional nature of molecules, such as ibuprofen, is fundamental to all of their properties including biological behavi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57200" y="2971800"/>
            <a:ext cx="2011320" cy="28576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5181480" y="1905120"/>
            <a:ext cx="30481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  H  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436360" y="2046240"/>
            <a:ext cx="4856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-25000">
                <a:solidFill>
                  <a:srgbClr val="000000"/>
                </a:solidFill>
                <a:latin typeface="Comic Sans MS"/>
              </a:rPr>
              <a:t>1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77880" y="2031840"/>
            <a:ext cx="4856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-25000">
                <a:solidFill>
                  <a:srgbClr val="000000"/>
                </a:solidFill>
                <a:latin typeface="Comic Sans MS"/>
              </a:rPr>
              <a:t>1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rcRect l="2387" t="23881" r="4476" b="24777"/>
          <a:stretch/>
        </p:blipFill>
        <p:spPr>
          <a:xfrm>
            <a:off x="3657600" y="3400560"/>
            <a:ext cx="5029200" cy="277164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7416-D5D8-4BA0-A015-5241B41B2995}" type="slidenum">
              <a:t>4</a:t>
            </a:fld>
          </a:p>
        </p:txBody>
      </p:sp>
    </p:spTree>
  </p:cSld>
  <p:transition spd="med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2743200" cy="27432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181480" y="4572000"/>
            <a:ext cx="2438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dopami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rcRect l="11613" t="17425" r="0" b="24504"/>
          <a:stretch/>
        </p:blipFill>
        <p:spPr>
          <a:xfrm>
            <a:off x="1900080" y="1523880"/>
            <a:ext cx="3891240" cy="2556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762120" y="457200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 bra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C919-D60E-4956-B15E-0C5A1082208F}" type="slidenum">
              <a:t>5</a:t>
            </a:fld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-4.44444E-006 L 0.31285 -0.1 E">
                                      <p:cBhvr>
                                        <p:cTn id="46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057400" y="568332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 ball and stick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4840" y="9360"/>
            <a:ext cx="4419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omic Sans MS"/>
              </a:rPr>
              <a:t>Dopami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 neurotransmitter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resent in the bra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11613" t="17425" r="0" b="24504"/>
          <a:stretch/>
        </p:blipFill>
        <p:spPr>
          <a:xfrm>
            <a:off x="2819520" y="2666880"/>
            <a:ext cx="3890880" cy="2556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6781680" y="4876920"/>
            <a:ext cx="21337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rb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flipV="1">
            <a:off x="4267080" y="4615920"/>
            <a:ext cx="243864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248520" y="2133720"/>
            <a:ext cx="2438280" cy="946080"/>
            <a:chOff x="6248520" y="2133720"/>
            <a:chExt cx="2438280" cy="946080"/>
          </a:xfrm>
        </p:grpSpPr>
        <p:sp>
          <p:nvSpPr>
            <p:cNvPr id="99" name=""/>
            <p:cNvSpPr/>
            <p:nvPr/>
          </p:nvSpPr>
          <p:spPr>
            <a:xfrm>
              <a:off x="6553080" y="2133720"/>
              <a:ext cx="2133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cc"/>
                  </a:solidFill>
                  <a:latin typeface="Arial"/>
                </a:rPr>
                <a:t>nitrogen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6248520" y="2622600"/>
              <a:ext cx="304560" cy="45720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457200" y="2209680"/>
            <a:ext cx="2438280" cy="717480"/>
            <a:chOff x="457200" y="2209680"/>
            <a:chExt cx="2438280" cy="717480"/>
          </a:xfrm>
        </p:grpSpPr>
        <p:sp>
          <p:nvSpPr>
            <p:cNvPr id="102" name=""/>
            <p:cNvSpPr/>
            <p:nvPr/>
          </p:nvSpPr>
          <p:spPr>
            <a:xfrm>
              <a:off x="457200" y="2209680"/>
              <a:ext cx="2133720" cy="6426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eaeaea"/>
                  </a:solidFill>
                  <a:latin typeface="Arial"/>
                </a:rPr>
                <a:t>hydrogen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514600" y="2698560"/>
              <a:ext cx="38088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457200" y="4723920"/>
            <a:ext cx="2437920" cy="1176480"/>
            <a:chOff x="457200" y="4723920"/>
            <a:chExt cx="2437920" cy="1176480"/>
          </a:xfrm>
        </p:grpSpPr>
        <p:sp>
          <p:nvSpPr>
            <p:cNvPr id="105" name=""/>
            <p:cNvSpPr/>
            <p:nvPr/>
          </p:nvSpPr>
          <p:spPr>
            <a:xfrm>
              <a:off x="457200" y="5257800"/>
              <a:ext cx="2133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Arial"/>
                </a:rPr>
                <a:t>oxygen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V="1">
              <a:off x="2057040" y="4723920"/>
              <a:ext cx="83808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225B-6955-4B6C-AFB1-425E14B72A3E}" type="slidenum">
              <a:t>6</a:t>
            </a:fld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7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rganic Chemist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1" lang="en-US" sz="3200" spc="-1" strike="noStrike">
                <a:solidFill>
                  <a:srgbClr val="808080"/>
                </a:solidFill>
                <a:latin typeface="Times New Roman"/>
              </a:rPr>
              <a:t>organic compou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a compound made from carbon ato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s one or more C atom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s many H ato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y also contain O, S, N, and haloge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5935-B03C-41F3-9FD2-65E725CAA81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rganic Compoun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46483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ical organic compou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10000"/>
              </a:lnSpc>
              <a:spcBef>
                <a:spcPts val="799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ve covalent bon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10000"/>
              </a:lnSpc>
              <a:spcBef>
                <a:spcPts val="799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ve low melting poi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10000"/>
              </a:lnSpc>
              <a:spcBef>
                <a:spcPts val="799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ve low boiling poi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10000"/>
              </a:lnSpc>
              <a:spcBef>
                <a:spcPts val="799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flamm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10000"/>
              </a:lnSpc>
              <a:spcBef>
                <a:spcPts val="799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soluble in nonpolar solv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10000"/>
              </a:lnSpc>
              <a:spcBef>
                <a:spcPts val="799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not soluble in wa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933800" y="2052720"/>
            <a:ext cx="2683080" cy="33782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4572000" y="541008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oil (organic) and water (inorganic</a:t>
            </a: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DDCB-A7AF-4822-B69D-3AF6B75FF5A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rganic vs. Inorgani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1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799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pane, 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is an organic compound used as a fue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90000"/>
              </a:lnSpc>
              <a:spcBef>
                <a:spcPts val="799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Cl, salt, is an inorganic compound composed of N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Cl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on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Times New Roman"/>
              </a:rPr>
              <a:t>Why is propane organic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Times New Roman"/>
              </a:rPr>
              <a:t>but NaCl is no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273560" y="2193840"/>
            <a:ext cx="4184640" cy="3828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F97B-8A24-49B5-9290-9912E480D1E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8T18:12:23Z</dcterms:created>
  <dc:creator> </dc:creator>
  <dc:description/>
  <dc:language>en-US</dc:language>
  <cp:lastModifiedBy>C363966</cp:lastModifiedBy>
  <dcterms:modified xsi:type="dcterms:W3CDTF">2012-10-02T23:52:51Z</dcterms:modified>
  <cp:revision>458</cp:revision>
  <dc:subject/>
  <dc:title>PowerPoint Presentation</dc:title>
</cp:coreProperties>
</file>